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wind.wav" ContentType="audio/x-wav"/>
  <Override PartName="/ppt/media/drumroll.wav" ContentType="audio/x-wav"/>
  <Override PartName="/ppt/media/image6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211A-5C26-41D0-917A-2C2D32253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B2F5-47A0-4F98-AD0F-4D776BFDD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DE8F-2E93-430E-AD89-AD8546AE8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2691-E995-414F-AC3B-9A45BC3DD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5A9E-88DB-4D8A-BE0A-B522CD8DA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4735-2E10-4D01-80E6-373F61FC6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078B-97B0-4BD7-84D8-B06903ABC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0ABE-6239-4078-B9B4-FCD776978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EA9E-B2C5-45C8-9D9D-3F06BB059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F0F2-CAE1-4814-AB61-B79237EED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29CD-7EF2-48A2-A2DA-9546175BE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56C5-8B8E-46C8-8EEF-5E260B28F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270-D3D8-4B9E-B261-64E8A61207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2149-1553-43F1-ABC5-44910720DB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THE IMPORTAN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FOR CONCEP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219320"/>
            <a:ext cx="8686800" cy="259056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Complete an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to journal about importance &amp; significance of Multiple Representations and also student conjectures or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B7D5-0875-426C-BC32-13530BAC26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92232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914400" y="41911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ndana  - record a new strategy or idea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ed about this brea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ARE THESE MODE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FEA6-1E14-41F1-A23E-C5B9F6403A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l_fi" descr="http://www.thechinesesymbol.com/medias/symbols/24609.png"/>
          <p:cNvPicPr/>
          <p:nvPr/>
        </p:nvPicPr>
        <p:blipFill>
          <a:blip r:embed="rId1"/>
          <a:stretch/>
        </p:blipFill>
        <p:spPr>
          <a:xfrm>
            <a:off x="1523880" y="2666880"/>
            <a:ext cx="1676520" cy="175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Documents and Settings\Nancy Snyder\Local Settings\Temporary Internet Files\Content.IE5\O09A9ZYS\MC900423171[1].wmf"/>
          <p:cNvPicPr/>
          <p:nvPr/>
        </p:nvPicPr>
        <p:blipFill>
          <a:blip r:embed="rId2"/>
          <a:stretch/>
        </p:blipFill>
        <p:spPr>
          <a:xfrm>
            <a:off x="5181480" y="2514600"/>
            <a:ext cx="1827360" cy="182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80880" y="1676520"/>
            <a:ext cx="85345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Small Group </a:t>
            </a:r>
            <a:r>
              <a:rPr b="1" lang="en-CA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 Creation and sh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Each group (each table) has 5 min to develop models (at least 4) for a specific con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C:\Documents and Settings\Nancy Snyder\Local Settings\Temporary Internet Files\Content.IE5\INMMNCMQ\MC900187587[1].wmf"/>
          <p:cNvPicPr/>
          <p:nvPr/>
        </p:nvPicPr>
        <p:blipFill>
          <a:blip r:embed="rId3"/>
          <a:stretch/>
        </p:blipFill>
        <p:spPr>
          <a:xfrm>
            <a:off x="4648320" y="76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explore the connection between multiple representations for linear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identify areas in our curriculum where connections between multiple representations is important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931-5E4E-4DF2-8D0D-FAF86150B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9F30-1056-4459-93F0-BEE9EC29BB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drumroll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Action:  TPQ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837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Think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about which question you would like to work on (6.1 or 6.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Pair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up - pick a partner and solve the problem using two different methods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en-CA" sz="2600" spc="-1" strike="noStrike">
                <a:solidFill>
                  <a:srgbClr val="002060"/>
                </a:solidFill>
                <a:latin typeface="Arial"/>
              </a:rPr>
              <a:t>instructions with BL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Quad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join another pair who solved the same problem but used differen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Share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&amp; comp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060"/>
                </a:solidFill>
                <a:latin typeface="Arial"/>
              </a:rPr>
              <a:t>Questions to Cons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7CF2-CB19-48DD-833E-D66A6669D0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C:\Documents and Settings\Nancy Snyder\Local Settings\Temporary Internet Files\Content.IE5\4E0NEPZG\MC900104872[1].wmf"/>
          <p:cNvPicPr/>
          <p:nvPr/>
        </p:nvPicPr>
        <p:blipFill>
          <a:blip r:embed="rId1"/>
          <a:stretch/>
        </p:blipFill>
        <p:spPr>
          <a:xfrm>
            <a:off x="457200" y="61920"/>
            <a:ext cx="1227240" cy="9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7D1C-E52A-45CA-869D-F3407FE219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3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Share &amp; Compare 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B173-C4CC-419B-9463-4C5981A764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6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0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80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471600"/>
            <a:ext cx="838188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Whole Group</a:t>
            </a:r>
            <a:r>
              <a:rPr b="0" lang="en-C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Discussion &amp;</a:t>
            </a:r>
            <a:r>
              <a:rPr b="1" lang="en-C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Sharing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see opportunities within the solution of these problems to address ideas from the Plena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ght it be a worthwhile Learning Goal to focus on student conjectures or predictions about solutions to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4826-4C3B-4042-BD9E-31752BC45F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Nancy Snyder\Local Settings\Temporary Internet Files\Content.IE5\4E0NEPZG\MC900304299[1].wmf"/>
          <p:cNvPicPr/>
          <p:nvPr/>
        </p:nvPicPr>
        <p:blipFill>
          <a:blip r:embed="rId1"/>
          <a:stretch/>
        </p:blipFill>
        <p:spPr>
          <a:xfrm>
            <a:off x="5257800" y="762120"/>
            <a:ext cx="1811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Original Picto-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e and Melissa went to the local carnival on the weekend.  While they were there, they each purchased a hamburger and a soda pop, which totalled $22.  Later, they met Sue’s brother Mike while he was buying a hamburger and pop for himself, so he decided to also buy Sue and Melissa a pop.  His bill was $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rmine the cost of one hamburger and one p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51CD-050D-430E-96A5-5CAA499D05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52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mall Group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Same G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70c0"/>
                </a:solidFill>
                <a:uFillTx/>
                <a:latin typeface="Arial Rounded MT Bold"/>
              </a:rPr>
              <a:t>Identify and 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areas in the curriculum where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between multiple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is an important learning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AE22-E3D8-422A-8FAF-FE8DFD7E39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08T00:48:43Z</dcterms:modified>
  <cp:revision>177</cp:revision>
  <dc:subject/>
  <dc:title>&lt;Title&gt;</dc:title>
</cp:coreProperties>
</file>